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56BE-D44F-486C-8E1B-24BA6938CB1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438C-507F-4CFF-92AA-929667D15FA7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788E-C509-4CD2-BC7F-7B4353040E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341-019D-45FF-AB88-337749AB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D19-2890-4C4D-87A8-4E460EE7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03FB9-26E8-4B53-98E0-A3D6A451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9009C-B4E4-40A1-B75A-1985F556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FC083-27ED-4565-8EF1-A86A9E64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DAEB6-7B64-4224-B804-9ECA8A2A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7B893-40AA-410B-9152-09DD7A1A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D4950-A242-44BD-BE25-E8942B80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1B773-DA8A-4611-B79F-1D378429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FD746-05BD-474E-B538-E9C66CF4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01AF7-53E9-491C-AECB-F643DC9A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108A1-D2BF-4A38-B437-67396F24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994-0421-4CF9-9370-DF531D65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B000C-8D16-42F6-B2A2-96565195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F6CC4-51A5-42AE-A906-A9829698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70F96-86C9-4EB1-BD38-B6D238B1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56D93-6463-4F6F-BF12-D69E99CE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81736-EE3C-4019-8DE3-5CFC2383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93C04-EBC6-4CC4-B368-91193FE2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E5501-4D31-4514-9FF9-18E116DD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A3819-8D25-4759-BB8E-D29E6122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61D7F-3733-430B-A35A-77E676AB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1C62A-48F7-4206-85D6-5AD56BEB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8A5-9DAC-4530-9B2A-7E58A2E5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4EE95-C6FA-4622-84F6-54703B8F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C2750-CD73-4FE6-9CB4-7775458A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198F8-074E-46B1-8C53-55439A10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13E2B-2522-49D5-B126-82E96CE4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AA41F-B247-4A52-9086-6E33FFA4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A1F5D-E495-4AA8-8D63-E0E945A9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87842-B05A-43D3-B5C7-11A37261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8CC45-B791-4FE5-8713-7D9FEEBD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9AB6A-E963-4FE7-8321-E445FA07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9323A-A911-4E00-873E-1B2E8289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24A5-7F5C-4606-846D-8414A03C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FEBE9-8B66-42CC-8A11-E9649B3A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54F70-01AD-443C-AAAE-9461D9ED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B1136-DB84-47F4-BC7C-40B667EC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868BE-9E08-4CF3-B776-D08204CE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96A55-B5DA-4E82-9845-1C6D33AE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2B3D9-DE2C-4F13-AF78-F53E3F59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0C614-FEB8-43DB-AC8B-120981AE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F6E60-FA4C-4EC7-BF74-92AEA3E0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67C58-B861-439A-8480-BD150A72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34A59-E5E7-4FEC-ACED-4C1E116A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DA9F-DAF9-4BFC-B3E9-AB05D531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0F7A4-9C52-4CD8-BA7D-8F7A831E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1F9A5-2801-4BF0-80CD-353B6831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BCAF6-7D2C-4A27-9A52-9669751F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78354-A5D4-42C8-8912-73141A29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DD131-A0AA-4B0A-8383-2E808A3E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CCD2-3E31-4F99-8C10-921D3677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927A-1761-4FF3-BBE8-C5DD5CF1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8E3A-936D-4128-9335-A18348C3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0BEB-1CF2-456D-9AC5-C8643D57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9523-2AE0-4BA2-B79B-1E6592E5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C0F-A0E9-4A96-90AC-EB7FA4CA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698B-F6EA-4ECC-8968-BBC933B1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B692-C653-4167-83F7-F828CD4B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F0E1-180F-466D-B837-78AC217D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7073-3DDC-4E1D-8549-F2E018E7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A457-3834-4D57-9CDB-89E20952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3E008-225E-474A-B5ED-FD6551AB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D8204-0576-41E2-B48E-A7653D9A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2A63A-F7EF-484D-844D-CA38002B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C740B-B8BC-42FC-99A0-7C640DED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89553-51A3-4FA2-B6AF-277E5CEE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887-CAFD-4507-A1F1-8CD150A7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83F34-513E-47DC-A0C7-28631EF2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9DAA-9349-4FE4-B801-ED7CACB1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A370C-1922-43D7-BB61-F34D8F24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A49F-387A-408B-B899-679439DC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85376-DD31-4632-9548-38088945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060C-5EF8-46B4-8620-14BBF356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89683-3950-479F-9261-A08583D7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31E35-5380-4E99-8173-08E6EC1D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09B28-A829-4364-92AD-6AFDCECE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0862C-5B7B-462F-A1F8-918CF02B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278-0B35-4D6C-BE37-FAA80880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CC475-6A41-4F0A-B519-2EDE5534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D68FD-923C-4973-B7A0-0A5486EF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512B8-6E7C-42AE-B85B-B5525056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B55A5-DFBC-4CA4-931E-B0CF5118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6E7EC-6177-431A-8D0D-7C2E9FD5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D98BC-1196-4FAC-99E6-D0EA6220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D9053-49AD-463C-B179-67632A98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BCB70-D79A-485E-ACA0-3F7EA9B9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7089A-829C-4342-A235-5EDAB32E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D075B-9BD6-4B2E-A195-CE163EE6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C10-7BB1-4EB5-9950-2E01847A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3EAD7-FF49-4EC3-AC34-1D67DEB6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6FFFA-C535-47FF-807B-0B29166A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02696-76F1-4BA1-85E2-EFCE7ACA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73C23-EABA-4A3C-9CCF-97E0A23A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8229E-BA7B-487E-BD69-7163F24C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7C5F1-5855-46F9-82E9-4AF28D28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F073A-22F0-41FA-96C2-BE1E0C8E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A0D74-6CE0-467D-B780-27E66046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3C8CB-9D2E-4CDF-8CB8-C2BBBF1A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C60A5-161D-4954-BDBB-386ADE21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EB8-22D4-49C2-91EE-D4621A33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1BACB-AE0D-4CA2-A163-F5FEF1B8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0C9E9-0141-4200-9123-46F07538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F2BA1-6F0B-41CE-848C-449B4BFA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F6D67-9404-4B4D-9BAE-09C29B13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CB3EA-1F88-4B08-A427-88C24B38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6D5C6-130A-48F7-BF7C-9E536ADE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53176-002F-4F79-B0C6-EAA2FB9F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E52A8-DF7F-4E08-AB8C-053BE51C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0E043-3C64-48F6-947B-18D0EB11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C14FC-BCD6-43AD-AADC-ABD8C848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20D-E4AF-431D-BAE3-155F4184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F5848-2723-4857-9A1C-EC2AF104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FAF57-1F1A-4D0B-A124-86711720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801AC-E662-4DEB-808B-EBECAC14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DEC7A-CF15-4430-A880-049EF76A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0EDBD-E3DA-4903-BE1F-5D22B3F7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E7D7B-8BA9-4F39-9901-4BE2C562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05F7E-AF06-4CA1-A46B-CC0B89E9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E6165-91B2-4467-A1B6-BFEA1E2F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C0185-2CA4-4FD3-8194-2E411B5B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1004F-702D-43ED-8901-6A8AE7CB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24FE-099F-456B-A495-1C4D4FD8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CEA70-F5F0-48FD-8B62-16C611B8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AD54E-77E7-4682-AEE1-E6421BE9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6315A-E7C9-41D4-A34E-8D0A289C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E2330-6CAA-4089-B28B-175C091F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06C36-E66E-4016-9D43-D6B2F6DC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654DC-7D4C-47A0-B3A8-479C9DCA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E6F63-06C8-4FAE-AD98-3081357F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B7902-6586-4676-936A-92B4037B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AE688-348A-400F-BD52-9597F2C0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3F087-43F1-4526-8EEC-242E0893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97D-D5D1-419C-B853-F7D51544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7478F-6644-4DE1-93A7-3A0880D1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88C93-B9FE-4267-91A7-31369E8A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DED96-8F24-4675-B019-46E421A5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6FF9D-9385-459A-A372-FA717985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AFCB8-D0B4-4270-8524-0FF5BDDF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902F4-539F-40C9-83C0-7B02B4E4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D95B7-6A54-4270-88EA-E9DE4C59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FBBE6-B03B-45C0-BC12-2F5CE110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2081D-359C-4733-8764-AD808A8F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4890F-7DE8-403A-8A61-10678AE2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BCA2-F070-4F15-87BE-52EEF4EFBFCF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Shape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B78D-BA89-4B51-A57C-95940AAD232D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68C6-9ECD-4B0C-809B-AB210748475D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Shap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BA83-4AD5-474E-8471-65C3A1F328B0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7425-0FC6-4571-B754-4FB6D1111E03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2B3E-1F18-41A1-9C09-7DC3DC276C33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37A3-1530-44AF-B6D1-DD4DA8326016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CD20-35DA-4A9C-B224-1E6518F7452C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FE77-645A-4861-A79B-9F28622E13DD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hape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8444-E022-48D9-8626-CA2C9090C47C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Shape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95A5-20B5-43D0-909D-565ABC9BDA88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Shape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9164-BD49-4880-9DFB-782BF81FAFD5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Brown Family Tree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pic>
        <p:nvPicPr>
          <p:cNvPr id="536" name="Diagram 5" descr=""/>
          <p:cNvPicPr/>
          <p:nvPr/>
        </p:nvPicPr>
        <p:blipFill>
          <a:blip r:embed="rId1"/>
          <a:stretch/>
        </p:blipFill>
        <p:spPr>
          <a:xfrm>
            <a:off x="450720" y="1176480"/>
            <a:ext cx="82425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2:12:22Z</dcterms:created>
  <dc:creator/>
  <dc:description/>
  <dc:language>en-US</dc:language>
  <cp:lastModifiedBy/>
  <dcterms:modified xsi:type="dcterms:W3CDTF">2008-12-01T01:16:0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79701033</vt:lpwstr>
  </property>
</Properties>
</file>